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14BF8-439C-4CFC-AA4C-13F165E0C6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8B31C-6F51-43A5-B42D-56262B19415A}" type="slidenum">
              <a:rPr b="0" lang="en-US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nningham Smith and Pearsall Chapter 16, p 4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A141B-3FD2-41C0-A36A-88F945A89FA0}" type="slidenum">
              <a:rPr b="0" lang="en-US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A07E2-04BC-4DFE-BCEF-90E097D26256}" type="slidenum">
              <a:rPr b="0" lang="en-US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E45F3-35C4-4B4B-9228-0211B414FAEF}" type="slidenum">
              <a:rPr b="0" lang="en-US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5DD50-8AFF-4A87-B6B1-15257385A5DC}" type="slidenum">
              <a:rPr b="0" lang="en-US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AF825-DF00-4E09-85BE-CB63A002F684}" type="slidenum">
              <a:rPr b="0" lang="en-US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973E1-8AF6-4BC1-8774-7B9D4EE3D205}" type="slidenum">
              <a:rPr b="0" lang="en-US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A10D9-A147-4B4F-BC55-B768A669021C}" type="slidenum">
              <a:rPr b="0" lang="en-US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a technical document a paragraph should have no more than 4-6 typed lines (no more than 50 words.  If you exceed this, find a suitable place to stop and start a new one (Gerson 58)  Long paragraphs impede the reader’s ability to grasp and retain poi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void repetitive expressions ( red in colour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void long words – use the si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r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though you cannot always avoid using multi-syllable words, be aware that they can limit comprehens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3% of Americans graduate from college. To write for college level would therefore disadvantage 67%.  Many businesses stipulate writing for 6 th to 8 th gra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Gerson Chapter 3 to locate some examp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F59DE-1CA2-4871-8FAC-BF310F530A49}" type="slidenum">
              <a:rPr b="0" lang="en-US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a topic is spatially organised you lay out and describe the components as they are seen (left to right top to bottom, inside out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lustrate “Moving from the general to the specific “ by reference to the introduction of mech. Des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4DC77-6A72-4CDC-A32F-C771B4C7BD6A}" type="slidenum">
              <a:rPr b="0" lang="en-US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ider six main features in designing the docu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s = Title, intro., dev./discussion,  conc.  What goes into each par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rson 336) : ways of concluding, depending on what was your purpose initially:  Discuss uses, guarantees, give testimony, compare/contr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FC66B-5C92-449D-A3AF-BB496BA04A43}" type="slidenum">
              <a:rPr b="0" lang="en-US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43E7C-8208-4F3D-92D7-8A5822F0B0D9}" type="slidenum">
              <a:rPr b="0" lang="en-US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8ACCD-BE35-4AF6-A50D-A8319B6BE70C}" type="slidenum">
              <a:rPr b="0" lang="en-US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57F34-0900-4D82-9F77-942565F1A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05299-C186-4F8F-B01F-0D987865D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A2C58-9A58-48C4-BF0A-AC4A1DE05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4DCCC-B432-419B-8D34-79659B37E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D6136-9FD6-470E-8CF2-0A67777C7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CDDAE-8BEB-450C-81A0-6945D0778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4A069-58D1-499F-9882-A0B5BAF85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5460F-E114-42BF-82B3-0F9AE07A9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8770E-9D5B-4F94-82F8-BD26EA400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1484F-7128-4DC7-BDDA-7574F6CF0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7B8E2-9BE1-4ABB-9224-CA2FC21A2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A8AD7-3D94-44FD-8A2F-448D2A168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6312C-91E5-489F-9A8D-25497684B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75B0C-7B3B-4539-95BD-828D75EBE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661F1-C016-4650-85DF-9EA2AA0D8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50B45-0AFC-4477-A6E2-F37741540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93BE6-B89E-4A32-9F26-2724C9950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94BB8-1F71-4AA1-AF1C-C6D386797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F6891-7889-49E0-A1EA-13BA19089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358CF-6BA2-4C1C-B52A-8678568D0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B293B-2E1E-482C-9ADC-0402FADA5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20DB2-95CC-4D86-BD82-13B695097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185B9-E64A-46B2-8E2C-8692D7DBF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E2321-483F-437B-A17A-8BEEA5344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>
                  <a:gd name="textAreaLeft" fmla="*/ 0 w 2743200"/>
                  <a:gd name="textAreaRight" fmla="*/ 2743200 w 2743200"/>
                  <a:gd name="textAreaTop" fmla="*/ 0 h 1166760"/>
                  <a:gd name="textAreaBottom" fmla="*/ 1167120 h 1166760"/>
                </a:gdLst>
                <a:ahLst/>
                <a:rect l="textAreaLeft" t="textAreaTop" r="textAreaRight" b="textAreaBottom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03663-D2A3-4220-9B84-994268A66640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FD8A5-4E34-4B27-A1F4-FFD638F7DC5B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920160" y="996120"/>
            <a:ext cx="7303680" cy="113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66"/>
                </a:solidFill>
                <a:latin typeface="Baskerville Old Face"/>
              </a:rPr>
              <a:t>TECHNICAL &amp; SCIENTIFIC</a:t>
            </a:r>
            <a:br>
              <a:rPr sz="2800"/>
            </a:br>
            <a:r>
              <a:rPr b="0" i="1" lang="en-US" sz="2800" spc="-1" strike="noStrike">
                <a:solidFill>
                  <a:srgbClr val="003366"/>
                </a:solidFill>
                <a:latin typeface="Baskerville Old Face"/>
              </a:rPr>
              <a:t>WRITING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371600" y="3276360"/>
            <a:ext cx="6400800" cy="1904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6666"/>
                </a:solidFill>
                <a:latin typeface="Baskerville Old Face"/>
              </a:rPr>
              <a:t>SKILL NO 1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66"/>
                </a:solidFill>
                <a:latin typeface="Baskerville Old Face"/>
              </a:rPr>
              <a:t>DESCRIP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1143000" y="1447920"/>
            <a:ext cx="693432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Baskerville Old Face"/>
              </a:rPr>
              <a:t>Pictorial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Baskerville Old Face"/>
              </a:rPr>
              <a:t>Pictorials support the written detail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Baskerville Old Face"/>
              </a:rPr>
              <a:t>Ensure clarity of percep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Baskerville Old Face"/>
              </a:rPr>
              <a:t>NB.  These may be copied or personally generate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57200" y="837720"/>
            <a:ext cx="8229600" cy="52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Baskerville Old Face"/>
              </a:rPr>
              <a:t>Some cautions re Pictorials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Baskerville Old Face"/>
              </a:rPr>
              <a:t>do the research to find most appropriate graphic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Baskerville Old Face"/>
              </a:rPr>
              <a:t>copy and acknowledge sourc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Baskerville Old Face"/>
              </a:rPr>
              <a:t>select aspects carefull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Baskerville Old Face"/>
              </a:rPr>
              <a:t>choose the most descriptive angl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Baskerville Old Face"/>
              </a:rPr>
              <a:t>use 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Baskerville Old Face"/>
              </a:rPr>
              <a:t>only</a:t>
            </a:r>
            <a:r>
              <a:rPr b="0" lang="en-US" sz="2800" spc="-1" strike="noStrike">
                <a:solidFill>
                  <a:srgbClr val="003366"/>
                </a:solidFill>
                <a:latin typeface="Baskerville Old Face"/>
              </a:rPr>
              <a:t> wh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Baskerville Old Face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Baskerville Old Face"/>
              </a:rPr>
              <a:t>-</a:t>
            </a:r>
            <a:r>
              <a:rPr b="0" lang="en-US" sz="2800" spc="-1" strike="noStrike">
                <a:solidFill>
                  <a:srgbClr val="003366"/>
                </a:solidFill>
                <a:latin typeface="Baskerville Old Face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Baskerville Old Face"/>
              </a:rPr>
              <a:t>the reader needs the help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Baskerville Old Face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Baskerville Old Face"/>
              </a:rPr>
              <a:t>-</a:t>
            </a:r>
            <a:r>
              <a:rPr b="0" lang="en-US" sz="2800" spc="-1" strike="noStrike">
                <a:solidFill>
                  <a:srgbClr val="003366"/>
                </a:solidFill>
                <a:latin typeface="Baskerville Old Face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Baskerville Old Face"/>
              </a:rPr>
              <a:t>the purpose demands the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Baskerville Old Face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Baskerville Old Face"/>
              </a:rPr>
              <a:t>-</a:t>
            </a:r>
            <a:r>
              <a:rPr b="0" lang="en-US" sz="2800" spc="-1" strike="noStrike">
                <a:solidFill>
                  <a:srgbClr val="003366"/>
                </a:solidFill>
                <a:latin typeface="Baskerville Old Face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Baskerville Old Face"/>
              </a:rPr>
              <a:t>when the information is 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Baskerville Old Face"/>
              </a:rPr>
              <a:t>best </a:t>
            </a:r>
            <a:r>
              <a:rPr b="0" lang="en-US" sz="2800" spc="-1" strike="noStrike">
                <a:solidFill>
                  <a:srgbClr val="003366"/>
                </a:solidFill>
                <a:latin typeface="Baskerville Old Face"/>
              </a:rPr>
              <a:t>conveyed visuall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800280" y="1059120"/>
            <a:ext cx="7847640" cy="532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Baskerville Old Face"/>
              </a:rPr>
              <a:t>THE USE OF VISUALS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2362320"/>
            <a:ext cx="82296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o be effective, visuals mus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66"/>
                </a:solidFill>
                <a:latin typeface="Baskerville Old Face"/>
              </a:rPr>
              <a:t>carry important information</a:t>
            </a:r>
            <a:endParaRPr b="0" lang="en-US" sz="30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66"/>
                </a:solidFill>
                <a:latin typeface="Baskerville Old Face"/>
              </a:rPr>
              <a:t>have the information made identifiable</a:t>
            </a:r>
            <a:endParaRPr b="0" lang="en-US" sz="30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66"/>
                </a:solidFill>
                <a:latin typeface="Baskerville Old Face"/>
              </a:rPr>
              <a:t>be separated from the text with adequate white space</a:t>
            </a:r>
            <a:endParaRPr b="0" lang="en-US" sz="30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66"/>
                </a:solidFill>
                <a:latin typeface="Baskerville Old Face"/>
              </a:rPr>
              <a:t>have a border that will define visual from text</a:t>
            </a:r>
            <a:endParaRPr b="0" lang="en-US" sz="30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66"/>
                </a:solidFill>
                <a:latin typeface="Baskerville Old Face"/>
              </a:rPr>
              <a:t>be integrated into the text by reference</a:t>
            </a:r>
            <a:endParaRPr b="0" lang="en-US" sz="3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804960" y="911160"/>
            <a:ext cx="7838280" cy="599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Baskerville Old Face"/>
              </a:rPr>
              <a:t>THE USE OF VISUALS  (continued)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ppear as close as possible to the text which it illustrates (as far as possible, on the same page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e directly relevant to the tex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e captioned (have its title underneath.  Only Tables carry the title above) and labeled ( all parts named and identified by arrows or a ke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e labeled 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figur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unless the information is given in a tabl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550800" y="367920"/>
            <a:ext cx="8042400" cy="1290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6666"/>
                </a:solidFill>
                <a:latin typeface="Baskerville Old Face"/>
              </a:rPr>
              <a:t>SPECIFIC TASK: Describing a Man-made </a:t>
            </a:r>
            <a:r>
              <a:rPr b="0" i="1" lang="en-US" sz="2400" spc="-1" strike="noStrike">
                <a:solidFill>
                  <a:srgbClr val="006666"/>
                </a:solidFill>
                <a:latin typeface="Baskerville Old Face"/>
              </a:rPr>
              <a:t>	</a:t>
            </a:r>
            <a:r>
              <a:rPr b="0" i="1" lang="en-US" sz="2400" spc="-1" strike="noStrike">
                <a:solidFill>
                  <a:srgbClr val="006666"/>
                </a:solidFill>
                <a:latin typeface="Baskerville Old Face"/>
              </a:rPr>
              <a:t>	</a:t>
            </a:r>
            <a:r>
              <a:rPr b="0" i="1" lang="en-US" sz="2400" spc="-1" strike="noStrike">
                <a:solidFill>
                  <a:srgbClr val="006666"/>
                </a:solidFill>
                <a:latin typeface="Baskerville Old Face"/>
              </a:rPr>
              <a:t>	</a:t>
            </a:r>
            <a:r>
              <a:rPr b="0" i="1" lang="en-US" sz="2400" spc="-1" strike="noStrike">
                <a:solidFill>
                  <a:srgbClr val="006666"/>
                </a:solidFill>
                <a:latin typeface="Baskerville Old Face"/>
              </a:rPr>
              <a:t>	</a:t>
            </a:r>
            <a:r>
              <a:rPr b="0" i="1" lang="en-US" sz="2400" spc="-1" strike="noStrike">
                <a:solidFill>
                  <a:srgbClr val="006666"/>
                </a:solidFill>
                <a:latin typeface="Baskerville Old Face"/>
              </a:rPr>
              <a:t>	</a:t>
            </a:r>
            <a:r>
              <a:rPr b="0" i="1" lang="en-US" sz="2400" spc="-1" strike="noStrike">
                <a:solidFill>
                  <a:srgbClr val="006666"/>
                </a:solidFill>
                <a:latin typeface="Baskerville Old Face"/>
              </a:rPr>
              <a:t>Mechanism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1336680" y="2738160"/>
            <a:ext cx="6624720" cy="31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Baskerville Old Face"/>
              </a:rPr>
              <a:t>QUALITIES expecte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Baskerville Old Face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Baskerville Old Face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Baskerville Old Face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Baskerville Old Face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Baskerville Old Face"/>
              </a:rPr>
              <a:t>Objectivit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Baskerville Old Face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Baskerville Old Face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Baskerville Old Face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Baskerville Old Face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Baskerville Old Face"/>
              </a:rPr>
              <a:t>Concisenes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Baskerville Old Face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Baskerville Old Face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Baskerville Old Face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Baskerville Old Face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Baskerville Old Face"/>
              </a:rPr>
              <a:t>Precis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914400" y="1143000"/>
            <a:ext cx="76960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Baskerville Old Face"/>
              </a:rPr>
              <a:t>Achieving Objectivity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Baskerville Old Face"/>
              </a:rPr>
              <a:t>Denotative vocabular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Baskerville Old Face"/>
              </a:rPr>
              <a:t>Precise languag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Baskerville Old Face"/>
              </a:rPr>
              <a:t>Statistical data (specific measurements etc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Baskerville Old Face"/>
              </a:rPr>
              <a:t>Neutral ton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990720" y="1066320"/>
            <a:ext cx="73152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Baskerville Old Face"/>
              </a:rPr>
              <a:t>Achieving Conciseness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Baskerville Old Face"/>
              </a:rPr>
              <a:t>Limit length of sentences, paragraph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Baskerville Old Face"/>
              </a:rPr>
              <a:t>Avoid repetitive expressions and alternativ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Baskerville Old Face"/>
              </a:rPr>
              <a:t>Precision 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Baskerville Old Face"/>
              </a:rPr>
              <a:t>Be informative – give details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Baskerville Old Face"/>
              </a:rPr>
              <a:t>Use measuremen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Baskerville Old Face"/>
              </a:rPr>
              <a:t>Avoid opin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1265400" y="2361960"/>
            <a:ext cx="70516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Baskerville Old Face"/>
              </a:rPr>
              <a:t>ORGANISING PRINCIPL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Baskerville Old Face"/>
              </a:rPr>
              <a:t>Spatial relationship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Baskerville Old Face"/>
              </a:rPr>
              <a:t>Logical moveme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Baskerville Old Face"/>
              </a:rPr>
              <a:t>General to the specific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8380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Baskerville Old Face"/>
              </a:rPr>
              <a:t>DESIGNING THE DOCUME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Baskerville Old Face"/>
              </a:rPr>
              <a:t>In designing six main areas will be considered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Baskerville Old Face"/>
              </a:rPr>
              <a:t>Document section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Baskerville Old Face"/>
              </a:rPr>
              <a:t>Page number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Baskerville Old Face"/>
              </a:rPr>
              <a:t>Font size and styl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Baskerville Old Face"/>
              </a:rPr>
              <a:t>Line spac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Baskerville Old Face"/>
              </a:rPr>
              <a:t>Paragraph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Baskerville Old Face"/>
              </a:rPr>
              <a:t>highlight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1143000" y="1066680"/>
            <a:ext cx="68580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66"/>
                </a:solidFill>
                <a:latin typeface="Baskerville Old Face"/>
              </a:rPr>
              <a:t>Document Section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Baskerville Old Face"/>
              </a:rPr>
              <a:t>Four main parts to the document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Baskerville Old Face"/>
              </a:rPr>
              <a:t>-</a:t>
            </a:r>
            <a:r>
              <a:rPr b="0" lang="en-US" sz="2800" spc="-1" strike="noStrike">
                <a:solidFill>
                  <a:srgbClr val="003366"/>
                </a:solidFill>
                <a:latin typeface="Baskerville Old Face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Baskerville Old Face"/>
              </a:rPr>
              <a:t>Titl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Baskerville Old Face"/>
              </a:rPr>
              <a:t>-</a:t>
            </a:r>
            <a:r>
              <a:rPr b="0" lang="en-US" sz="2800" spc="-1" strike="noStrike">
                <a:solidFill>
                  <a:srgbClr val="003366"/>
                </a:solidFill>
                <a:latin typeface="Baskerville Old Face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Baskerville Old Face"/>
              </a:rPr>
              <a:t>Introduc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Baskerville Old Face"/>
              </a:rPr>
              <a:t>-</a:t>
            </a:r>
            <a:r>
              <a:rPr b="0" lang="en-US" sz="2800" spc="-1" strike="noStrike">
                <a:solidFill>
                  <a:srgbClr val="003366"/>
                </a:solidFill>
                <a:latin typeface="Baskerville Old Face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Baskerville Old Face"/>
              </a:rPr>
              <a:t>Bod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Baskerville Old Face"/>
              </a:rPr>
              <a:t>-</a:t>
            </a:r>
            <a:r>
              <a:rPr b="0" lang="en-US" sz="2800" spc="-1" strike="noStrike">
                <a:solidFill>
                  <a:srgbClr val="003366"/>
                </a:solidFill>
                <a:latin typeface="Baskerville Old Face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Baskerville Old Face"/>
              </a:rPr>
              <a:t>Conclus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66"/>
                </a:solidFill>
                <a:latin typeface="Baskerville Old Face"/>
              </a:rPr>
              <a:t>Highlighting Strategies</a:t>
            </a:r>
            <a:r>
              <a:rPr b="0" lang="en-US" sz="2800" spc="-1" strike="noStrike">
                <a:solidFill>
                  <a:srgbClr val="003366"/>
                </a:solidFill>
                <a:latin typeface="Baskerville Old Face"/>
              </a:rPr>
              <a:t>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Baskerville Old Face"/>
              </a:rPr>
              <a:t>Indentation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Baskerville Old Face"/>
              </a:rPr>
              <a:t>Upper case;   bold;   italics;  underlin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Baskerville Old Face"/>
              </a:rPr>
              <a:t>Headings and sub-heading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Baskerville Old Face"/>
              </a:rPr>
              <a:t>Lists: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Baskerville Old Face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Baskerville Old Face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Baskerville Old Face"/>
              </a:rPr>
              <a:t>- bullette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Baskerville Old Face"/>
              </a:rPr>
              <a:t>        </a:t>
            </a:r>
            <a:r>
              <a:rPr b="0" lang="en-US" sz="2800" spc="-1" strike="noStrike">
                <a:solidFill>
                  <a:srgbClr val="003366"/>
                </a:solidFill>
                <a:latin typeface="Baskerville Old Face"/>
              </a:rPr>
              <a:t>- numbered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Baskerville Old Face"/>
              </a:rPr>
              <a:t>VISUALIS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Baskerville Old Face"/>
              </a:rPr>
              <a:t>The main purpose ---  to support the written detail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Baskerville Old Face"/>
              </a:rPr>
              <a:t>Four main ways of visualizing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Baskerville Old Face"/>
              </a:rPr>
              <a:t>	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Baskerville Old Face"/>
              </a:rPr>
              <a:t>Use descriptive and familiar words to establish size, shape, texture, appearan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Baskerville Old Face"/>
              </a:rPr>
              <a:t>Use geometric shapes for general &amp; specific appearance (Pearsall 437 ff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Baskerville Old Face"/>
              </a:rPr>
              <a:t>Use analogies (similar elements from other things and experiences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Baskerville Old Face"/>
              </a:rPr>
              <a:t>Use pictorials (graphic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1T14:46:29Z</dcterms:created>
  <dc:creator>Joyce</dc:creator>
  <dc:description/>
  <dc:language>en-US</dc:language>
  <cp:lastModifiedBy>jstewart</cp:lastModifiedBy>
  <dcterms:modified xsi:type="dcterms:W3CDTF">2010-09-21T19:16:28Z</dcterms:modified>
  <cp:revision>12</cp:revision>
  <dc:subject/>
  <dc:title>TECHNICAL &amp; SCIENTIFIC WRITING</dc:title>
</cp:coreProperties>
</file>